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557-6DD9-4852-BAE6-E01A73D9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ED9-D804-4BE4-A565-AFD234F5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5B5-F8F9-4D49-A194-94C3D608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98E-3243-41C2-B4E4-326080F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3E0-A296-49CA-A622-3DF375E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DC6-D308-48A7-9F5B-308A744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838-6675-43A1-92E9-5F26A31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F41-567D-4009-A609-A62BB89E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DD5-F87B-4D5C-B3C0-45F3946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6EE-98E4-40A9-B526-A4A4C59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7BA-B2BE-4AD5-B984-488BB6F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066-CF4F-4FDB-9B2F-03B8491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F9C-052A-4CD5-8811-EE1EAB0B4D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F8CD-A737-4AF7-837F-BDC0B22A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7F2-C546-46D9-8580-33C211BBAA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8D2-36D3-4085-9BF8-692FD722B55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14F-27D2-4EDD-A601-7C6C43D4493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C79-2B6A-43E0-B208-A18A9EDE421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979-0B29-4486-9A61-B8ED436E192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840-01E1-4349-99A9-E6273A201E2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40E-717E-4728-A621-6FFD8BF9A04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7A7-3FEA-4F9B-887F-2D541AC6406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E97-9AC8-46C9-832B-1E0B0A2711A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DF2-28C6-4C34-908A-06E3C4E5E9F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F69-8A0B-414E-9A08-B5ACE8CE164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61E-947C-4D1F-8FDF-FE5778314CB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729-7CF3-4AEE-A27A-F11C6BFFFC4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CEE-7F74-48D7-B0BA-3F8AE4026C6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928-EB5C-482E-A6A8-3BA725B3F13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F03-8CF2-469B-99AF-298543CC796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9F1-FB4B-4EC8-8750-840A2FF48F4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66C-5333-4F68-B66C-C3DC3D66BE2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D46-5D15-4BA9-944B-4C5CBE82439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15F-2E35-4352-BA93-B3CD5A7564A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C96-E270-4E0C-8831-972B01F895B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912-D08B-4B22-B42B-A96CB8078A6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D47-5C9D-40CD-8F1A-A67A91178BE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DDF-1E83-4EC9-BF6E-067D6E92C2A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26E-E372-44C5-9AA0-9162CF94CA7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B2D-049F-4613-A318-6D25B455F90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B0D-0103-49EE-A975-48DA4F0715B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77E-6568-49E1-BA51-15EB240C138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0E4-BD19-4906-959B-656EE5C379DE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737-0A1F-4C57-A689-779415D13017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9BD-AA9B-458C-B932-8B9A9980AE3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872-EECA-475E-A63D-61FDBB096388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101-AC14-42A6-8E3E-ECAF47F2993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AE2-19A5-4CEF-9E87-05C5DC184DB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A11-0333-43FE-BF68-2B305FA6D35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870-BA7D-46AB-AAA8-07D384369E5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6D0-415B-4C10-840F-2BD28955ADF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853-45D7-43B4-BA89-E3B0C913F7A6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5DB-905F-45CF-A6C7-F48CFECDB213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2D6-4B7C-4685-ADFA-91E7DC5D94BE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732-199D-4697-B972-4F84432CAE48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530-C263-4D18-B68C-16012AED0F76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CB7-F062-44EA-A361-58D16EB56939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CE9-BDF4-43F3-B7EA-8C8CA420DE44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382-55ED-4DF9-82B7-5B6F6AC0105A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E64-F256-4E11-9FE0-F35F37435859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C19-E14F-4BCC-90C9-015B09785836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F2F-217E-4B94-9A17-F2F9D2D5479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BEE-911F-416E-A5B3-25AC8161405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244-AE28-41D9-9DC1-0DB0E8EDCA0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22F-FF6B-4B24-9B66-4DD4EAB1489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M. Johnson</cp:lastModifiedBy>
  <dcterms:modified xsi:type="dcterms:W3CDTF">2000-11-02T09:00:51Z</dcterms:modified>
  <cp:revision>32</cp:revision>
  <dc:subject/>
  <dc:title>Blank Jeopardy</dc:title>
</cp:coreProperties>
</file>